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1C13-0DE5-4E61-8CAB-A1C9D0DF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8B38-B9D9-4A9A-9A00-F020C9D1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4B53-5DB0-49C6-8FCB-17A0D62AA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D5DF-2161-45C3-8BC3-2138977E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7783-593D-444A-80B6-FD6D839AC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4CF2-92BA-478F-9B9C-06E4E958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68CD-F85D-4AB6-8C44-9D0E28BF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ACCF-96D2-4CD7-ADA3-26001B90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F5A1-C14A-4063-B751-1B8DAD05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2C4D-758B-46C5-974B-8D00BEA7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C6BF-850A-45D7-85B1-BF4446E6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F0C3-9863-40E9-AA8F-5B84DA66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2F26-5DA9-4A6A-8295-7B8571FA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5469-2BD5-48CB-932E-3AF57280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45EF-33A4-41E6-9105-ED39491D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374F-672D-402E-A3E5-8582228AA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2B0F-C590-49A2-84E9-29292462C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46BC-7835-4D90-BB8A-2A6ADC84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3AE0-4A0B-4AA0-9D27-BA260096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0F6D-8EB1-41E1-8958-87057D21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488D-CDEA-47E1-9829-6FF1B5FF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0D45-E07E-409C-8729-87A7DDBA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34F3-F4AC-43BF-BABC-70FF1FB6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40CA-47A3-4BCB-9011-54E2DE25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7D41-3E1F-4C9A-AEE6-8EE781F306D8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AA46-DFDA-4529-A8DD-128E74D99236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СТУДЕНТ ФЕЩЕНКО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3160" y="2286000"/>
            <a:ext cx="8381880" cy="4114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3059280" y="2438280"/>
            <a:ext cx="3722400" cy="140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Я делаю слай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4572000"/>
            <a:ext cx="2133360" cy="12193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3581280"/>
            <a:ext cx="2057400" cy="2514600"/>
          </a:xfrm>
          <a:prstGeom prst="cloudCallout">
            <a:avLst>
              <a:gd name="adj1" fmla="val -19444"/>
              <a:gd name="adj2" fmla="val 4546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43600" y="4038480"/>
            <a:ext cx="2895480" cy="129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952880"/>
            <a:ext cx="198144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8120" y="380196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ядок с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2T10:09:01Z</dcterms:created>
  <dc:creator>Вшлфкум</dc:creator>
  <dc:description/>
  <dc:language>en-US</dc:language>
  <cp:lastModifiedBy>Вшлфкум</cp:lastModifiedBy>
  <dcterms:modified xsi:type="dcterms:W3CDTF">2003-11-22T11:20:19Z</dcterms:modified>
  <cp:revision>1</cp:revision>
  <dc:subject/>
  <dc:title>СТУДЕНТ ФЕЩЕНКО</dc:title>
</cp:coreProperties>
</file>