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1B0A-C5EC-48C4-9994-3D1769FE6D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9759-CC74-40AB-817D-D1EEC5869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5029200"/>
            <a:ext cx="1447920" cy="121932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1371600" cy="137160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47840" y="4370400"/>
            <a:ext cx="24908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ак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1508040" y="6696000"/>
            <a:ext cx="44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ВЫБОР 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3526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375" h="21600">
                <a:moveTo>
                  <a:pt x="1618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375" h="21600">
                <a:moveTo>
                  <a:pt x="13611" y="8224"/>
                </a:moveTo>
                <a:lnTo>
                  <a:pt x="17475" y="8224"/>
                </a:lnTo>
                <a:lnTo>
                  <a:pt x="17475" y="15221"/>
                </a:lnTo>
                <a:lnTo>
                  <a:pt x="18764" y="15221"/>
                </a:lnTo>
                <a:lnTo>
                  <a:pt x="18764" y="16144"/>
                </a:lnTo>
                <a:lnTo>
                  <a:pt x="13611" y="16144"/>
                </a:lnTo>
                <a:lnTo>
                  <a:pt x="13611" y="15221"/>
                </a:lnTo>
                <a:lnTo>
                  <a:pt x="14899" y="15221"/>
                </a:lnTo>
                <a:lnTo>
                  <a:pt x="14899" y="9129"/>
                </a:lnTo>
                <a:lnTo>
                  <a:pt x="13611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AF9-FC37-4A38-AC4C-AF70BFBA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325-55DD-4E24-AF3E-69BA8527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64B-4E92-4918-B8ED-8E3EA3F5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440-6940-4378-A378-AEC3857C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A59B-4453-401D-960E-1A2E5E85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E546-304A-4C65-BED7-79A3E3FE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6C59-8002-4CA2-905D-F9A19F3A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3CE1-DD12-47D3-B430-04451F99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8580-2EFE-43E3-9889-B1EA914D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F297-9496-432F-898C-83965804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59F1-C13A-4091-B1AA-619E9DD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028-7DFF-4E7D-872E-7139382A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CD81-66C2-415C-B4FE-978D1369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9B51-FED1-4518-956E-BE2DFE4B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B68B-6AE6-4E33-9528-14972C0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9D06-0156-45EB-995E-696293AE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E1D9-FEBC-4094-A91C-43D767D6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463-E25C-4145-ACDB-3D1613E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87A-6905-4304-A29C-05FF3309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ED4-DBBC-4EF4-883D-8426F779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AB8-FCB3-4172-969D-B4F50B5B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4FF-FD56-4655-B56B-06F14616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347-8F18-4629-A69E-246D0DC2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6B6-427A-418F-BC6E-3ED80AE9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4CE8-7B04-4774-8E8C-7180010B3C9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3E8F-FCC2-40AA-9AB2-FEA8C4EB904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Это все о прекрасно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равнение редакторов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3733920"/>
            <a:ext cx="2514600" cy="160020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3809880"/>
            <a:ext cx="1676520" cy="2590920"/>
          </a:xfrm>
          <a:prstGeom prst="horizontalScroll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505320"/>
            <a:ext cx="2666880" cy="259056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067400 h 2590560"/>
              <a:gd name="textAreaBottom" fmla="*/ 152316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5181480"/>
            <a:ext cx="99072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9:05:26Z</dcterms:created>
  <dc:creator>Вшлфкум</dc:creator>
  <dc:description/>
  <dc:language>en-US</dc:language>
  <cp:lastModifiedBy>Вшлфкум</cp:lastModifiedBy>
  <dcterms:modified xsi:type="dcterms:W3CDTF">2004-10-23T07:18:45Z</dcterms:modified>
  <cp:revision>2</cp:revision>
  <dc:subject/>
  <dc:title>Это все о прекрасном</dc:title>
</cp:coreProperties>
</file>